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EDA-B206-4DA1-843B-778833CA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359-E220-4FBF-8B9A-5670F4E3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198-0484-439E-A859-66C9F157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CBA-CEFE-4FC9-A1E1-07AE770A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BC2-1D1C-403A-8F37-CFE8D5E7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959-1624-4497-BE9F-387AE4F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23B-1461-4A30-8C6A-66F1F532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650-36F2-48DA-81A4-A7AF066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E38-24D8-40F3-9307-B43BBC4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773-D273-4684-A154-960FC42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A2C-8884-4E52-B6B4-8F73DF9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D26-D0B3-49E4-976C-72498FB1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2A60-713A-4735-82D8-2F15364FF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ayon-frame-backgrounds-wallpap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Kozuka Mincho Pro M"/>
              </a:rPr>
              <a:t>How to be emphatic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In Conditional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hould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I meet him today, I will tell him about you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Were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we away from home, we would miss our nearest and dea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Had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n’t Mendeleev dreamed about the periodic table, it would have taken much time to inv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To express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o, neither/nor,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 don’t like sushi.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Neither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Mary hasn’t invited Tom.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Nor have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 want to see Jared Leto live! –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S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I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is colleagues respected him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as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Kozuka Mincho Pro M"/>
              </a:rPr>
              <a:t>did</a:t>
            </a: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 his b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ozuka Mincho Pro M"/>
              </a:rPr>
              <a:t>After adverbs of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ere comes the bri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Away ran the burgl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ozuka Mincho Pro M"/>
              </a:rPr>
              <a:t>In direct speech after the quote where the subject is a no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«I’ve never seen him», said He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Kozuka Mincho Pro M"/>
              </a:rPr>
              <a:t>Emphatic structures as they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It is/was (not) + Subject/Object/Location + that/who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the principle who organised the school conce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is the TV that wakes me up ever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I/me who spoiled the par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t was they/them that cam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as it here that you met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ozuka Mincho Pro M"/>
              </a:rPr>
              <a:t>That is/was + question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hat’s what he told the po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hat was the place we were supposed to meet 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s that where she’s living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as that why he resig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Kozuka Mincho Pro M"/>
              </a:rPr>
              <a:t>Question word + is/was it+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Kozuka Mincho Pro M"/>
              </a:rPr>
              <a:t>(works with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o was it THAT sent you flow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re is it 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M"/>
              </a:rPr>
              <a:t>that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you are planning to go on va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Kozuka Mincho Pro M"/>
              </a:rPr>
              <a:t>Question word+Subject+Verb+is/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 I need is some good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 I hate is your breaking promi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Kozuka Mincho Pro M"/>
              </a:rPr>
              <a:t>Question word + e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(to emphasise emo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oever did you talk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atever are you doing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rever did you fin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Whenever you called me, I would come to hel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Present/Past Simple or Imperative Mood + DO/DOES/DID + BARE 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love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tell me he was lea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need your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es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care for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sit down, plea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ozuka Mincho Pro M"/>
              </a:rPr>
              <a:t>NB</a:t>
            </a:r>
            <a:r>
              <a:rPr b="0" i="1" lang="ru-RU" sz="2400" spc="-1" strike="noStrike">
                <a:solidFill>
                  <a:srgbClr val="000000"/>
                </a:solidFill>
                <a:latin typeface="Kozuka Mincho Pro M"/>
              </a:rPr>
              <a:t>: In Russian it will be translated as </a:t>
            </a:r>
            <a:r>
              <a:rPr b="0" i="1" lang="ru-RU" sz="2400" spc="-1" strike="noStrike">
                <a:solidFill>
                  <a:srgbClr val="000000"/>
                </a:solidFill>
                <a:latin typeface="Bradley Hand ITC"/>
              </a:rPr>
              <a:t>на самом деле, все же, правда, действительно и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Kozuka Mincho Pro M"/>
              </a:rPr>
              <a:t>Inv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We exchange the positions of the </a:t>
            </a: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Subject 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and the </a:t>
            </a:r>
            <a:r>
              <a:rPr b="1" lang="ru-RU" sz="3200" spc="-1" strike="noStrike">
                <a:solidFill>
                  <a:srgbClr val="000000"/>
                </a:solidFill>
                <a:latin typeface="Kozuka Mincho Pro M"/>
              </a:rPr>
              <a:t>Auxillary Verb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in the sentence to give emph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Kozuka Mincho Pro M"/>
              </a:rPr>
              <a:t>Certain expressions at the beginning of th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Seldom/Rar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Scarcely (ever)…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Hardly (ever)…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 sooner…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only…but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Litt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Bare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w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till/unti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n no 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In/Under no circumstan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ever (befor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t even o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 no occas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 no accou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Only in this w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Kozuka Mincho Pro M"/>
              </a:rPr>
              <a:t>Nor…/neith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af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if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when.. (+ inversion in the main cl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Only b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Not si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+ af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Kozuka Mincho Pro M"/>
              </a:rPr>
              <a:t>So, such, to such a deg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Kozuka Mincho Pro M"/>
              </a:rPr>
              <a:t>Need 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t only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they attach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importance to this idea, but also make an attempt to put it into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Rarely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o we se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him these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 sooner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had we got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into the house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than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he phoned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Only after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he 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M"/>
              </a:rPr>
              <a:t>had 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graduated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did he start looking for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Only if you invite her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ill she com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o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Not until all the tests had been completed,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ere we told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So careful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is sh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at she never makes any mist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Kozuka Mincho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Such a brilliant student </a:t>
            </a:r>
            <a:r>
              <a:rPr b="1" lang="ru-RU" sz="2400" spc="-1" strike="noStrike">
                <a:solidFill>
                  <a:srgbClr val="000000"/>
                </a:solidFill>
                <a:latin typeface="Kozuka Mincho Pro M"/>
              </a:rPr>
              <a:t>was he</a:t>
            </a:r>
            <a:r>
              <a:rPr b="0" lang="ru-RU" sz="2400" spc="-1" strike="noStrike">
                <a:solidFill>
                  <a:srgbClr val="000000"/>
                </a:solidFill>
                <a:latin typeface="Kozuka Mincho Pro M"/>
              </a:rPr>
              <a:t> that he was offered a schola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37:44Z</dcterms:created>
  <dc:creator>Elizaveta</dc:creator>
  <dc:description/>
  <dc:language>en-US</dc:language>
  <cp:lastModifiedBy>Lizzie</cp:lastModifiedBy>
  <dcterms:modified xsi:type="dcterms:W3CDTF">2012-10-24T11:35:15Z</dcterms:modified>
  <cp:revision>14</cp:revision>
  <dc:subject/>
  <dc:title>How to be emphatic?</dc:title>
</cp:coreProperties>
</file>